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A29-D90A-491A-9E8B-0453DEDB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C25-53AA-46EC-AC68-CEFC7BE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5B5-025A-44DC-8F4C-1132AABA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CF2-F34E-4A7D-AE0E-7FC65D89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259-FDB7-4EEF-9716-46E60BF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F33-7B00-45AE-9E27-E50D15F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1D7-982D-41CF-9E01-9B51D749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D9C-1EFF-49CE-851F-CE7968BE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D98-8DA4-4296-A39F-200FD10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4CC-B8B5-492C-8AC2-0612A7D2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F69-2A02-474D-A6DE-BA0C852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0EC-C0C4-4018-A084-C4E1AA7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55A2-729C-42BB-923F-0136686D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of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problem in ques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your independent and dependent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hypothesis or thes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ulleted form, summarize the main background information you researched in order to understand your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 is in your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photos and short video clip here to verify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uals must verify that you collected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/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and Tables require titles and labels and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of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main findings of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at data supports/disproves your hypothesis or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all sources including books, websites, articles used for this experiment in ML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put too much information in on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fonts, animations, background, etc…. are professional and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28:46Z</dcterms:created>
  <dc:creator>khiggins2</dc:creator>
  <dc:description/>
  <dc:language>en-US</dc:language>
  <cp:lastModifiedBy>Janell Simpson</cp:lastModifiedBy>
  <dcterms:modified xsi:type="dcterms:W3CDTF">2011-05-11T14:50:01Z</dcterms:modified>
  <cp:revision>4</cp:revision>
  <dc:subject/>
  <dc:title>TITLE SLIDE</dc:title>
</cp:coreProperties>
</file>